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721-A154-433B-A5A4-77C6A9F9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890-FD37-4EF4-AC23-EB5AA169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03FE-B75F-4788-A451-8EAB6F0D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630-EE38-4538-B01C-64435DE2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2BDE-67C2-4A54-B83A-A02F1429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9F5D-2ED3-4E06-B06A-B1B649F4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7E3-5432-42A1-81AB-9FC529D6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37F-05E7-4733-B158-C7B79B6C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A217-0B8C-46E7-8662-BBF88A27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2CE3-51C9-4660-9CFC-47530C5C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7B8-49D4-4A6F-B333-A6ECC9E5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6F1-7E64-47F1-A2A3-F6D9B0FF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A91C-229B-47A3-834E-4F77BA4B1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cia.gov/library/publications/the-world-factbook/flags/flagtemplate_sp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cia.gov/library/publications/the-world-factbook/geos/sp.html" TargetMode="External"/><Relationship Id="rId2" Type="http://schemas.openxmlformats.org/officeDocument/2006/relationships/hyperlink" Target="http://www.worldatlas.com/webimage/countrys/europe/spain/estimeln.htm" TargetMode="External"/><Relationship Id="rId3" Type="http://schemas.openxmlformats.org/officeDocument/2006/relationships/hyperlink" Target="http://www.spainexpat.com/spain/information/castillian_spanish/" TargetMode="External"/><Relationship Id="rId4" Type="http://schemas.openxmlformats.org/officeDocument/2006/relationships/hyperlink" Target="http://worldmusic.nationalgeographic.com/view/page.basic/country/content.country/spain_14" TargetMode="External"/><Relationship Id="rId5" Type="http://schemas.openxmlformats.org/officeDocument/2006/relationships/hyperlink" Target="http://news.bbc.co.uk/2/hi/europe/6368623.s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cia.gov/library/publications/the-world-factbook/maps/maptemplate_sp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youtube.com/watch?v=m0YRLvbu6zA" TargetMode="External"/><Relationship Id="rId3" Type="http://schemas.openxmlformats.org/officeDocument/2006/relationships/hyperlink" Target="http://www.youtube.com/watch?v=jQ8_6Su9xGc&amp;feature=related" TargetMode="External"/><Relationship Id="rId4" Type="http://schemas.openxmlformats.org/officeDocument/2006/relationships/hyperlink" Target="http://www.youtube.com/watch?v=jQ8_6Su9xGc&amp;feature=related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Flag of Spa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0920" y="2130120"/>
            <a:ext cx="4876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pa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800240" y="388620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Emily K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añol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cia.gov/library/publications/the-world-factbook/geos/sp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orldatlas.com/webimage/countrys/europe/spain/estimeln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painexpat.com/spain/information/castillian_spanish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orldmusic.nationalgeographic.com/view/page.basic/country/content.country/spain_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news.bbc.co.uk/2/hi/europe/6368623.s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guardian.co.uk/world/2012/feb/19/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ch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blación de España: 46,754,7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amente hay 26 países con poblaciones más grandes en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yoría de las personas en España son católicos romanos.  Solamente hay 6% de la población con una otra relig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idioma oficial es Castell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343040" y="533520"/>
            <a:ext cx="4343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iudades más importantes son Madrid, la capital; Barcelona; y Val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ap of Spa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81240"/>
            <a:ext cx="43704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gobierno de España es una monarquía constituciona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rey es Juan Carlos I, desde 1975 y so poder pasará a su hijo, Principe Fel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o, hay 17 comunidades autono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472428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33920" cy="3714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243684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695760" y="0"/>
            <a:ext cx="5448240" cy="3733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9880" y="2743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3733920"/>
            <a:ext cx="19814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167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Protesters in central Madrid on Sunday."/>
          <p:cNvPicPr/>
          <p:nvPr/>
        </p:nvPicPr>
        <p:blipFill>
          <a:blip r:embed="rId1"/>
          <a:stretch/>
        </p:blipFill>
        <p:spPr>
          <a:xfrm>
            <a:off x="5181480" y="4481640"/>
            <a:ext cx="3962520" cy="2376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cesos Actu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2004, había un gran ataque en una estación de tren en Madrid. Este ataque, hecho por los musalmanes, murió 191 personas y causó daño por cientos más. Este mes, los 29 personas sospechados de este ataque está en cort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 año, muchos personas están protestando en los calles debido de la reducción de gastos y cambios en los derechos laborales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idioma y los ac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ellano es la más popluar idioma: 74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ras idiomas incluyen: Catalán, Gallego, y Vas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ellan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 /th/ para “c” y “z,” pero usa /s/ para “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 el voseo para la plural del forma de “t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 el “tú” mucho en cambio de “U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342200" y="0"/>
            <a:ext cx="1801800" cy="31431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ú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y muchos géneros de música en España, estilos folklóricos Vasco, Galego, y Catál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j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flamenco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m0YRLvbu6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as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o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rumba catal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zarz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82880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02:51:55Z</dcterms:created>
  <dc:creator>Emily</dc:creator>
  <dc:description/>
  <dc:language>en-US</dc:language>
  <cp:lastModifiedBy>Emily</cp:lastModifiedBy>
  <dcterms:modified xsi:type="dcterms:W3CDTF">2012-02-20T14:57:07Z</dcterms:modified>
  <cp:revision>8</cp:revision>
  <dc:subject/>
  <dc:title>España</dc:title>
</cp:coreProperties>
</file>